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FF8-C925-4CE2-9EDB-D875CE0B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877-E6A3-4760-B1A6-19BF8778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F6D-E851-4DA9-9F39-9CAC6CF0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10FD-5EAE-459C-9E51-3EA91D09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597A-6133-4E3D-9009-9A3FC1E8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4485-F0C4-4C79-908C-13C2F41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3C6E-8148-4AD1-9632-F97C431A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4AD2-E5DF-4EA8-A49F-74FCD22C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684-CA48-4C51-AEE8-A0289953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94A0-C39D-4DE5-8E36-62C0E62D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8283-69C4-412C-ADBB-43A5ABDB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65A1-2A3B-478E-B1C8-76B353C2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FDB-D490-4676-81B2-B8FE7FC6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DC8-B9C9-4373-845F-728E52B3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8A56-E994-46EF-91E7-D4B5CB8C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C78B-0C34-446D-AB4E-4F6AC5B0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A3A-5558-4034-B2F0-269CC9D3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397-D2B7-468E-AA1F-8F121AC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5E9-A14E-410A-874C-B444E8F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282-80A9-47A9-8456-C6B7686A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384-E991-4DF1-A4DB-DC3E352E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B615-25D3-4FA2-9703-824363D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4989-EEE2-4490-8CE8-1AA77602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43A0-5C43-4D8C-A209-827355E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1A7E-3996-4EEF-AB3D-DFACF215D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EB48-6B52-46AC-ADB4-BCBE7DAFD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4 Partons en vac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1:24Z</dcterms:modified>
  <cp:revision>37</cp:revision>
  <dc:subject/>
  <dc:title>Tu as une idée de cadeau pour…</dc:title>
</cp:coreProperties>
</file>